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E5E-54B6-481F-9B48-674806DD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FA6-B282-46F7-BEA7-2AF3CE40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A3E-65AF-4EF2-ABF3-7AFB0619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FC3-07DA-4C2D-ADCD-CAB62694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7BA-3527-4BA4-AE2A-C537199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FEC-837B-40A4-A378-BC1E8C5D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8DD-8374-42ED-BD05-ACA8C67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C2A-E4CC-4650-844A-CC3BAAA6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295-2F3E-4183-A3A4-DE03264F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42F-87DB-4AE0-905E-300249C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1F2-31D8-4C06-9675-FEEE30F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45E-0438-4981-9AD9-796C422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33AE-DB8D-45B3-87A2-19861234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14264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The Most Hated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70572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6480" y="685800"/>
            <a:ext cx="571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s the midnight hour-strike rings in the night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louds roll through the darkened sky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o ordinary clouds are these ones though;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y rumble and growl each with their own voices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with every cry dark, pained, and ang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914400"/>
            <a:ext cx="579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walk the lonely streets of a new Rome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arveling at how the sky matches my inner turmoil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try to understand what the weight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at cross must have been with our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ins piled atop its rough su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8494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83808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stand in the midst of this long night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aring at the sky as it rains down upon m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only rain that doesn't sting but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Washes the tears from my weary fac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hear a voice under the thunder, "I know what life is like."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rying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32176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114800"/>
            <a:ext cx="61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smile, which at first held no joy, is now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light of Lord's life. I will bear my pain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further his glory and in return get his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and to lift my broken form from this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rth to stand in his arms and cry my first tears of jo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38862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99840" y="4114800"/>
            <a:ext cx="647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legacy is to bear this life for my savior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very slap and cruel word, every single thorn and splinter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rom the crown and the cross society hands m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ough I am treated as a criminal, spat on and beaten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soul flies free on the wings of eagles he gives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n_being_beaten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28954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72920" y="3733920"/>
            <a:ext cx="68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s I look down the street I know. My road will be tough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hold no fear for the future though. I will make it through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the arms of my savior, my comforter, my teacher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life, my light, and my truth. Who died for me and bore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ain that I could never imagine. My life would be easy to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7463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y-heaven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25908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45720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ven my darkest and hardest hours he brightens for me and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o matter how the world hates me he accepts me as I am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e has named me as his own. From outcast to beloved child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lone wolf to the purest lamb, and he has claimed me as his daug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jewel of his crown in heaven where he waits for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5028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most hated lamb on Earth. Now the soul of heaven's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unbeams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143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2:58:08Z</dcterms:created>
  <dc:creator> </dc:creator>
  <dc:description/>
  <dc:language>en-US</dc:language>
  <cp:lastModifiedBy> </cp:lastModifiedBy>
  <dcterms:modified xsi:type="dcterms:W3CDTF">2008-02-27T22:10:26Z</dcterms:modified>
  <cp:revision>6</cp:revision>
  <dc:subject/>
  <dc:title>Slide 1</dc:title>
</cp:coreProperties>
</file>